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  <p:sldId id="297" r:id="rId63"/>
    <p:sldId id="298" r:id="rId64"/>
    <p:sldId id="299" r:id="rId65"/>
    <p:sldId id="300" r:id="rId66"/>
    <p:sldId id="301" r:id="rId67"/>
    <p:sldId id="302" r:id="rId68"/>
    <p:sldId id="303" r:id="rId69"/>
    <p:sldId id="304" r:id="rId70"/>
    <p:sldId id="305" r:id="rId71"/>
    <p:sldId id="306" r:id="rId72"/>
    <p:sldId id="307" r:id="rId73"/>
    <p:sldId id="308" r:id="rId74"/>
    <p:sldId id="309" r:id="rId75"/>
    <p:sldId id="310" r:id="rId76"/>
    <p:sldId id="311" r:id="rId77"/>
    <p:sldId id="312" r:id="rId78"/>
    <p:sldId id="313" r:id="rId79"/>
    <p:sldId id="314" r:id="rId80"/>
    <p:sldId id="315" r:id="rId81"/>
    <p:sldId id="316" r:id="rId82"/>
    <p:sldId id="317" r:id="rId83"/>
    <p:sldId id="318" r:id="rId84"/>
    <p:sldId id="319" r:id="rId85"/>
    <p:sldId id="320" r:id="rId86"/>
    <p:sldId id="321" r:id="rId87"/>
    <p:sldId id="322" r:id="rId88"/>
    <p:sldId id="323" r:id="rId89"/>
    <p:sldId id="324" r:id="rId90"/>
    <p:sldId id="325" r:id="rId91"/>
    <p:sldId id="326" r:id="rId92"/>
    <p:sldId id="327" r:id="rId93"/>
    <p:sldId id="328" r:id="rId94"/>
    <p:sldId id="329" r:id="rId95"/>
    <p:sldId id="330" r:id="rId96"/>
    <p:sldId id="331" r:id="rId97"/>
    <p:sldId id="332" r:id="rId98"/>
    <p:sldId id="333" r:id="rId99"/>
    <p:sldId id="334" r:id="rId100"/>
    <p:sldId id="335" r:id="rId101"/>
    <p:sldId id="336" r:id="rId102"/>
    <p:sldId id="337" r:id="rId103"/>
    <p:sldId id="338" r:id="rId104"/>
    <p:sldId id="339" r:id="rId105"/>
    <p:sldId id="340" r:id="rId106"/>
    <p:sldId id="341" r:id="rId107"/>
    <p:sldId id="342" r:id="rId108"/>
    <p:sldId id="343" r:id="rId109"/>
    <p:sldId id="344" r:id="rId110"/>
    <p:sldId id="345" r:id="rId111"/>
    <p:sldId id="346" r:id="rId112"/>
    <p:sldId id="347" r:id="rId113"/>
    <p:sldId id="348" r:id="rId114"/>
    <p:sldId id="349" r:id="rId115"/>
    <p:sldId id="350" r:id="rId116"/>
    <p:sldId id="351" r:id="rId117"/>
    <p:sldId id="352" r:id="rId118"/>
    <p:sldId id="353" r:id="rId119"/>
    <p:sldId id="354" r:id="rId120"/>
    <p:sldId id="355" r:id="rId121"/>
    <p:sldId id="356" r:id="rId122"/>
    <p:sldId id="357" r:id="rId123"/>
    <p:sldId id="358" r:id="rId124"/>
    <p:sldId id="359" r:id="rId125"/>
    <p:sldId id="360" r:id="rId126"/>
    <p:sldId id="361" r:id="rId127"/>
    <p:sldId id="362" r:id="rId128"/>
    <p:sldId id="363" r:id="rId129"/>
    <p:sldId id="364" r:id="rId130"/>
    <p:sldId id="365" r:id="rId131"/>
    <p:sldId id="366" r:id="rId132"/>
    <p:sldId id="367" r:id="rId133"/>
    <p:sldId id="368" r:id="rId134"/>
    <p:sldId id="369" r:id="rId135"/>
    <p:sldId id="370" r:id="rId136"/>
    <p:sldId id="371" r:id="rId137"/>
    <p:sldId id="372" r:id="rId138"/>
    <p:sldId id="373" r:id="rId139"/>
    <p:sldId id="374" r:id="rId140"/>
    <p:sldId id="375" r:id="rId141"/>
    <p:sldId id="376" r:id="rId1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slide" Target="slides/slide42.xml"/><Relationship Id="rId64" Type="http://schemas.openxmlformats.org/officeDocument/2006/relationships/slide" Target="slides/slide43.xml"/><Relationship Id="rId65" Type="http://schemas.openxmlformats.org/officeDocument/2006/relationships/slide" Target="slides/slide44.xml"/><Relationship Id="rId66" Type="http://schemas.openxmlformats.org/officeDocument/2006/relationships/slide" Target="slides/slide45.xml"/><Relationship Id="rId67" Type="http://schemas.openxmlformats.org/officeDocument/2006/relationships/slide" Target="slides/slide46.xml"/><Relationship Id="rId68" Type="http://schemas.openxmlformats.org/officeDocument/2006/relationships/slide" Target="slides/slide47.xml"/><Relationship Id="rId69" Type="http://schemas.openxmlformats.org/officeDocument/2006/relationships/slide" Target="slides/slide48.xml"/><Relationship Id="rId70" Type="http://schemas.openxmlformats.org/officeDocument/2006/relationships/slide" Target="slides/slide49.xml"/><Relationship Id="rId71" Type="http://schemas.openxmlformats.org/officeDocument/2006/relationships/slide" Target="slides/slide50.xml"/><Relationship Id="rId72" Type="http://schemas.openxmlformats.org/officeDocument/2006/relationships/slide" Target="slides/slide51.xml"/><Relationship Id="rId73" Type="http://schemas.openxmlformats.org/officeDocument/2006/relationships/slide" Target="slides/slide52.xml"/><Relationship Id="rId74" Type="http://schemas.openxmlformats.org/officeDocument/2006/relationships/slide" Target="slides/slide53.xml"/><Relationship Id="rId75" Type="http://schemas.openxmlformats.org/officeDocument/2006/relationships/slide" Target="slides/slide54.xml"/><Relationship Id="rId76" Type="http://schemas.openxmlformats.org/officeDocument/2006/relationships/slide" Target="slides/slide55.xml"/><Relationship Id="rId77" Type="http://schemas.openxmlformats.org/officeDocument/2006/relationships/slide" Target="slides/slide56.xml"/><Relationship Id="rId78" Type="http://schemas.openxmlformats.org/officeDocument/2006/relationships/slide" Target="slides/slide57.xml"/><Relationship Id="rId79" Type="http://schemas.openxmlformats.org/officeDocument/2006/relationships/slide" Target="slides/slide58.xml"/><Relationship Id="rId80" Type="http://schemas.openxmlformats.org/officeDocument/2006/relationships/slide" Target="slides/slide59.xml"/><Relationship Id="rId81" Type="http://schemas.openxmlformats.org/officeDocument/2006/relationships/slide" Target="slides/slide60.xml"/><Relationship Id="rId82" Type="http://schemas.openxmlformats.org/officeDocument/2006/relationships/slide" Target="slides/slide61.xml"/><Relationship Id="rId83" Type="http://schemas.openxmlformats.org/officeDocument/2006/relationships/slide" Target="slides/slide62.xml"/><Relationship Id="rId84" Type="http://schemas.openxmlformats.org/officeDocument/2006/relationships/slide" Target="slides/slide63.xml"/><Relationship Id="rId85" Type="http://schemas.openxmlformats.org/officeDocument/2006/relationships/slide" Target="slides/slide64.xml"/><Relationship Id="rId86" Type="http://schemas.openxmlformats.org/officeDocument/2006/relationships/slide" Target="slides/slide65.xml"/><Relationship Id="rId87" Type="http://schemas.openxmlformats.org/officeDocument/2006/relationships/slide" Target="slides/slide66.xml"/><Relationship Id="rId88" Type="http://schemas.openxmlformats.org/officeDocument/2006/relationships/slide" Target="slides/slide67.xml"/><Relationship Id="rId89" Type="http://schemas.openxmlformats.org/officeDocument/2006/relationships/slide" Target="slides/slide68.xml"/><Relationship Id="rId90" Type="http://schemas.openxmlformats.org/officeDocument/2006/relationships/slide" Target="slides/slide69.xml"/><Relationship Id="rId91" Type="http://schemas.openxmlformats.org/officeDocument/2006/relationships/slide" Target="slides/slide70.xml"/><Relationship Id="rId92" Type="http://schemas.openxmlformats.org/officeDocument/2006/relationships/slide" Target="slides/slide71.xml"/><Relationship Id="rId93" Type="http://schemas.openxmlformats.org/officeDocument/2006/relationships/slide" Target="slides/slide72.xml"/><Relationship Id="rId94" Type="http://schemas.openxmlformats.org/officeDocument/2006/relationships/slide" Target="slides/slide73.xml"/><Relationship Id="rId95" Type="http://schemas.openxmlformats.org/officeDocument/2006/relationships/slide" Target="slides/slide74.xml"/><Relationship Id="rId96" Type="http://schemas.openxmlformats.org/officeDocument/2006/relationships/slide" Target="slides/slide75.xml"/><Relationship Id="rId97" Type="http://schemas.openxmlformats.org/officeDocument/2006/relationships/slide" Target="slides/slide76.xml"/><Relationship Id="rId98" Type="http://schemas.openxmlformats.org/officeDocument/2006/relationships/slide" Target="slides/slide77.xml"/><Relationship Id="rId99" Type="http://schemas.openxmlformats.org/officeDocument/2006/relationships/slide" Target="slides/slide78.xml"/><Relationship Id="rId100" Type="http://schemas.openxmlformats.org/officeDocument/2006/relationships/slide" Target="slides/slide79.xml"/><Relationship Id="rId101" Type="http://schemas.openxmlformats.org/officeDocument/2006/relationships/slide" Target="slides/slide80.xml"/><Relationship Id="rId102" Type="http://schemas.openxmlformats.org/officeDocument/2006/relationships/slide" Target="slides/slide81.xml"/><Relationship Id="rId103" Type="http://schemas.openxmlformats.org/officeDocument/2006/relationships/slide" Target="slides/slide82.xml"/><Relationship Id="rId104" Type="http://schemas.openxmlformats.org/officeDocument/2006/relationships/slide" Target="slides/slide83.xml"/><Relationship Id="rId105" Type="http://schemas.openxmlformats.org/officeDocument/2006/relationships/slide" Target="slides/slide84.xml"/><Relationship Id="rId106" Type="http://schemas.openxmlformats.org/officeDocument/2006/relationships/slide" Target="slides/slide85.xml"/><Relationship Id="rId107" Type="http://schemas.openxmlformats.org/officeDocument/2006/relationships/slide" Target="slides/slide86.xml"/><Relationship Id="rId108" Type="http://schemas.openxmlformats.org/officeDocument/2006/relationships/slide" Target="slides/slide87.xml"/><Relationship Id="rId109" Type="http://schemas.openxmlformats.org/officeDocument/2006/relationships/slide" Target="slides/slide88.xml"/><Relationship Id="rId110" Type="http://schemas.openxmlformats.org/officeDocument/2006/relationships/slide" Target="slides/slide89.xml"/><Relationship Id="rId111" Type="http://schemas.openxmlformats.org/officeDocument/2006/relationships/slide" Target="slides/slide90.xml"/><Relationship Id="rId112" Type="http://schemas.openxmlformats.org/officeDocument/2006/relationships/slide" Target="slides/slide91.xml"/><Relationship Id="rId113" Type="http://schemas.openxmlformats.org/officeDocument/2006/relationships/slide" Target="slides/slide92.xml"/><Relationship Id="rId114" Type="http://schemas.openxmlformats.org/officeDocument/2006/relationships/slide" Target="slides/slide93.xml"/><Relationship Id="rId115" Type="http://schemas.openxmlformats.org/officeDocument/2006/relationships/slide" Target="slides/slide94.xml"/><Relationship Id="rId116" Type="http://schemas.openxmlformats.org/officeDocument/2006/relationships/slide" Target="slides/slide95.xml"/><Relationship Id="rId117" Type="http://schemas.openxmlformats.org/officeDocument/2006/relationships/slide" Target="slides/slide96.xml"/><Relationship Id="rId118" Type="http://schemas.openxmlformats.org/officeDocument/2006/relationships/slide" Target="slides/slide97.xml"/><Relationship Id="rId119" Type="http://schemas.openxmlformats.org/officeDocument/2006/relationships/slide" Target="slides/slide98.xml"/><Relationship Id="rId120" Type="http://schemas.openxmlformats.org/officeDocument/2006/relationships/slide" Target="slides/slide99.xml"/><Relationship Id="rId121" Type="http://schemas.openxmlformats.org/officeDocument/2006/relationships/slide" Target="slides/slide100.xml"/><Relationship Id="rId122" Type="http://schemas.openxmlformats.org/officeDocument/2006/relationships/slide" Target="slides/slide101.xml"/><Relationship Id="rId123" Type="http://schemas.openxmlformats.org/officeDocument/2006/relationships/slide" Target="slides/slide102.xml"/><Relationship Id="rId124" Type="http://schemas.openxmlformats.org/officeDocument/2006/relationships/slide" Target="slides/slide103.xml"/><Relationship Id="rId125" Type="http://schemas.openxmlformats.org/officeDocument/2006/relationships/slide" Target="slides/slide104.xml"/><Relationship Id="rId126" Type="http://schemas.openxmlformats.org/officeDocument/2006/relationships/slide" Target="slides/slide105.xml"/><Relationship Id="rId127" Type="http://schemas.openxmlformats.org/officeDocument/2006/relationships/slide" Target="slides/slide106.xml"/><Relationship Id="rId128" Type="http://schemas.openxmlformats.org/officeDocument/2006/relationships/slide" Target="slides/slide107.xml"/><Relationship Id="rId129" Type="http://schemas.openxmlformats.org/officeDocument/2006/relationships/slide" Target="slides/slide108.xml"/><Relationship Id="rId130" Type="http://schemas.openxmlformats.org/officeDocument/2006/relationships/slide" Target="slides/slide109.xml"/><Relationship Id="rId131" Type="http://schemas.openxmlformats.org/officeDocument/2006/relationships/slide" Target="slides/slide110.xml"/><Relationship Id="rId132" Type="http://schemas.openxmlformats.org/officeDocument/2006/relationships/slide" Target="slides/slide111.xml"/><Relationship Id="rId133" Type="http://schemas.openxmlformats.org/officeDocument/2006/relationships/slide" Target="slides/slide112.xml"/><Relationship Id="rId134" Type="http://schemas.openxmlformats.org/officeDocument/2006/relationships/slide" Target="slides/slide113.xml"/><Relationship Id="rId135" Type="http://schemas.openxmlformats.org/officeDocument/2006/relationships/slide" Target="slides/slide114.xml"/><Relationship Id="rId136" Type="http://schemas.openxmlformats.org/officeDocument/2006/relationships/slide" Target="slides/slide115.xml"/><Relationship Id="rId137" Type="http://schemas.openxmlformats.org/officeDocument/2006/relationships/slide" Target="slides/slide116.xml"/><Relationship Id="rId138" Type="http://schemas.openxmlformats.org/officeDocument/2006/relationships/slide" Target="slides/slide117.xml"/><Relationship Id="rId139" Type="http://schemas.openxmlformats.org/officeDocument/2006/relationships/slide" Target="slides/slide118.xml"/><Relationship Id="rId140" Type="http://schemas.openxmlformats.org/officeDocument/2006/relationships/slide" Target="slides/slide119.xml"/><Relationship Id="rId141" Type="http://schemas.openxmlformats.org/officeDocument/2006/relationships/slide" Target="slides/slide120.xml"/><Relationship Id="rId142" Type="http://schemas.openxmlformats.org/officeDocument/2006/relationships/slide" Target="slides/slide121.xml"/><Relationship Id="rId1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5CE-1D43-4F0A-83AC-F04C5DFA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6A5-5AEA-43A8-85C0-B12868FE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EEEBB-0BCC-4A0B-9BB7-119CA6FD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AAB21-5929-443B-A6E6-6E5D7111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139D6-C5B1-4A45-940D-930FCD40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18B54-75C4-4C1C-89BE-31B23D94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A86E1-E896-4FB9-BE22-E301B55B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CD02B-B137-446C-845E-49607B3B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41890-DDD3-45A0-B1D7-FDABCEFC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13EA1-0A52-4B97-8D35-B9DFA53C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25967-F075-4097-A19A-0C2531FE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C9B14-F46E-47D8-87FC-2C0AFBF8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64B-F57D-4074-8B94-96E6829F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6F0E6-76C8-4EC3-A379-6F6C0E66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239A5-27D3-434B-9346-6965AC60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37309-BA73-4B73-9960-711D535E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EB589-3E28-42F8-BD4D-BF89D1DC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B8BA1-37A1-4229-8CD4-134C808C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EEE0C-DA9D-4808-9CC5-F7519B3A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FD702-7C4E-4C24-9E47-AE3F1298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C0698-E119-4891-9AAA-53644CF7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14B5B-EBEE-42A4-8519-C0781FAB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24242-DBD3-403D-8537-241A4573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2DA1-C576-4EDA-A046-0AD04ACC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76F63-E339-431F-B270-E2EB72FE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D2D80-7A7C-4208-8EDD-F5069F68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1E8C3-5E62-4EA1-B61C-5B5B4B54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C5AB5-DE3D-497E-B76C-7F4CC5A8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D06C5-7B26-449C-A27D-0CB5A7F8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3DF5D-FC81-4163-BC34-56BC519B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AC818-6CE0-487E-9FA1-1B6BDB7C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C6B7D-15B8-40D9-8889-BA6FEDCC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E500B-5A23-4A2E-98ED-9B7414C5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3B9C9-6F76-4E98-98D8-65BC8033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F6F6-6043-4CFE-A990-C18244EA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CA181-2436-4DE6-A780-9C3A4D18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E6CE6-3C26-4B99-A338-1DEC24B4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867E1-4FED-42A9-B659-BE13A287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FF6A1-4CFE-4F39-8084-4D8DBB73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BBFE9-2B70-4355-91DB-7186802D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3064B-75CC-4192-BA11-D3E4CFD8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88A6D-CBFB-4A94-887A-F7ED404E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4A675-D31D-47DB-80E1-3B085BC7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8E565-3F8A-4460-AB20-61193129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22B85-D1DF-4F4B-B428-8490348E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4B1D-A510-4C17-91FB-7967801E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70706-E20D-4B04-BCC8-A9B8C1C7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93878-91AD-40F9-B42C-8FAD3DEB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68A8E-0C50-4BC6-9296-0FEDAD84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9722B-AD3D-4680-BE16-5885978E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52656-5320-4153-8112-852C5D8B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A1A8E-012D-4154-A7C9-F72898B2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79A51-AF96-41BF-8B03-3CED7E89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87EE3-DF56-4681-9B5D-6372F61C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91A93-44B1-4A29-846E-1F9D4B86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6CD34-A741-449A-9860-B500472E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D571-0047-4B10-80AF-02E94578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F3671-B13B-41CC-93EE-153583D1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3BC2F-A4DE-4439-9772-AAF4DB56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A06A5-783B-42E1-B4CE-67A1A2C7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51339-CF83-4C5C-AC4B-EA74342B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16728-FD7D-4543-AE24-A68999D9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982AF-DD23-40B2-AD12-BBD61F66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69A49-D1F9-4F40-A305-239AA254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D12604-6402-4829-BB9D-45647F05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2603FF-215B-47FF-A5D3-5A9900E8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800B0-9AED-414F-B45B-65C679DF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7095-7FBB-4D43-A63E-94852D8D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D2BE65-13E5-4517-AE40-D96DA592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5B9AB3-39BE-4461-9DF8-D41F7923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6A102-176A-4E7D-A59C-C7329D20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66CE6-9125-46A9-84F2-F4BB0B1E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56F72-62C2-4579-ADF7-0E3633EA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06ACA7-2745-40AB-A1C2-BA436CD2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E7B2A1-A566-49D4-A82B-1CDCA1DC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6BB32F-468A-4A02-886F-2F87E73A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0031AE-EB22-4C8E-8023-F8F3B99C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C1665-9749-44B8-AFE8-60E9FFC0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EFA2-5A26-4148-ACF9-8AAF4D3D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00C09A-3069-4C65-B922-721C2F29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2B8B8A-2ED8-4B66-9DF2-1318A7CB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EB39AD-7F63-487A-AC85-AB3D6228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FE6625-4B60-453E-A3D9-14907516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CB3BAA-AE1E-4C5D-8903-5138863B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4859B8-D7C0-430D-97CD-EE485590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3D819B-1E1B-4F92-ACEA-1A05E284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4A40DE-96F6-4422-A6DC-8C47B45C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15A4FA-F555-48B3-A593-56609525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F609FD-A0D9-4222-AAB9-BFCEB41D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5D87-DE65-4A0A-ADE7-E9C3BA3A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C6681-117C-4E83-9019-F1913F22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12C522-0150-4568-B982-FA34B97B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054697-C1BD-41B7-9572-AC9BFC93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9059BD-B714-42E6-88F4-BDDF5556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359A02-CBBD-4751-A95A-DC7D6B44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EA8B1C-89FC-4699-A721-9635357B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D3FF65-4B54-4342-9C20-75218380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9D6E49-4EDB-4D54-9F97-DB846A94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895584-4ABB-4F3D-A41C-970B8643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239834-9C9C-4D73-BFAD-CE8F8F47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6994-F73F-473E-87FD-26822617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602453-1D38-4D24-8B9F-06EE6029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226CA3-07E6-4417-A126-AFD138D4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FB76C6-A850-4EBD-8098-95197E67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37DA2B-14A4-458F-A090-149FAC6B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8050CA-CE74-44D9-A981-6555B19F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F3D634-842A-4EBF-A530-CE0F84F3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3870BC-58C2-4736-B52C-21B849FC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F042FE-ECC1-4D9A-A66D-BDD9CFC5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E86894-A894-49AE-B8BA-E7312232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AE6442-C652-4E12-A8E4-C881202C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80C-5991-4817-84E7-A3FF2091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F1BB-67E0-48A7-BEDF-0FBF9C12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BF8227-5AF0-4B2D-953C-3E437F8A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927615-EFF9-4BE5-BBCD-3872178C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0CD0DB-1012-4BFA-BF4C-D566B1A4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D317C1-F468-49D7-9695-DAFD8788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88A9F2-AAD2-46B6-A7AD-80C857EF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8B973C-2E82-4B35-83B9-D00F1847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6A7F1B-3745-4B3D-AF2C-B44473EB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1B3EAB-CC22-40A4-BDE9-D7503B5E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EDD9CF-C884-46E5-AAD8-D4B5E9BE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ED4D90-CBA6-42B5-A3FE-F1E21DF7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CBE3-6992-47F9-AF1C-7AA66EA2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3BEDF9-C902-4C9C-A3E1-136AFC70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197BDF-1EB8-48AC-8C26-2EA9DC8D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4C88E5-08B0-41C7-943A-8D059DDE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C37F61-F7CA-4E95-9C44-4F24D2DE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D8FB1A-1C1C-4CDB-A452-DE60CAA3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18A421-EB61-414A-BFE7-F9FF2F54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8A2539-9A0F-4390-8DA4-6AD98F0F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DE18F7-EDDB-47BC-B5CF-1753B374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5D1F5C-6653-4332-BB64-2B0F07ED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C877E2-DF20-4224-AE8A-17CC1E82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B501-88B9-469B-843D-CBE5DDA8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337DC4-0D31-452E-B827-5E60B316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769805-E24B-4562-91BF-52B3ADCF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9E3975-A1D9-460F-B15D-06E06273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884885-7499-4B20-96BD-AE69B23F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F80C85-3F86-44C2-AFD3-DA48AA49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65099B-1636-47C9-BA75-2CC0A390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72248F-5422-483F-BF82-EC9FDACA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2192F8-F5A3-436B-8149-579E78CD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9D16A5-1C35-4A91-A3F5-CD1718D8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3B9A92-AEC6-4D3A-B51D-8A9BDB19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32F6-BE5A-4C1D-81DB-5E60632A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882CCA-A72C-4970-931D-CF86E593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22D5AE-0899-47B8-9C2D-C5232AE5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8B9940-5EDA-4931-8664-02646849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164B63-D977-4350-95F9-3E386CBA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DECF37-8BEC-47CA-8361-4FB28806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2FCACA-F448-4E17-9404-F45C5D93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0EB505-0FD2-4F72-829C-0CD9BAC4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DACACA-EF36-4C9D-A77B-68F5BA51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C87D73-F5DE-4C07-BAB8-F1867AAF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9BB16B-CF7D-48B8-9F8F-2BF73DAC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ED06-9222-400B-B585-9329B00B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00ED32-DC1A-41A3-A754-03857B58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E5B04-E4DD-4A4A-8584-B59FF30A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063B6-702B-44B1-926B-CDA71BCB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E0365-5F59-4C9C-B7C5-B48A3916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652D2-E244-480C-969E-37B61040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F96A4-BAC8-4C32-BF2E-CB95827E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A89-1F34-4629-B4E1-B85ADFA3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96C15-E6EF-4BEA-B9C8-225DEA55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2AC30-F00F-4B1B-8CB1-9C8E993F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E9164-9041-4551-9842-7FE9EE6C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4AC52-1C5D-46B9-9F41-A6A0F3AF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37476-4902-496A-BCD5-67D2790E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C7FD1-A4B3-40D5-BFDD-6C816F3F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15267-4251-44E4-B955-4E3FBD3A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9F459-71E2-4C1C-A067-98B6F5FF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E1C8B-7F25-49BF-A005-81B395AC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7FC68-0970-4D97-95A2-A6931FF9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7A2F-ACB7-44D9-9DA4-8B0C6BB7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C2F51-73C2-4DC0-9DBB-84F762BF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02442-28A9-403D-9616-E901C4F5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64A98-336D-499B-A607-6B0B29DD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DACB2-932C-4DBF-A937-319ECCF0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4A824-CE11-4393-A634-7AF31CE1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1C512-A849-4A2E-90DC-053568DC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72C2F-F8C8-4850-B570-FA9B0D1A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A79A2-1CF0-4251-A930-9205FD6A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D2FEC-3DEB-494A-8208-1E6B868D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3CCFE-2DCB-496D-B1EC-9744C369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E540-C25A-4A48-AD5D-3408E175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B69DE-03AB-4CA6-B861-BA90DD8C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1D1E4-2FE3-434D-A286-0789026A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6A7D9-4A88-4FC0-A77B-F7423BE6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E32BF-1F1C-43E2-B959-691D3C68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C5C3B-C690-4808-A01C-40F32F30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5E1EA-1FCA-43B1-B903-4A58E320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80AED-C722-40A9-A402-FB94E9F3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89840-F208-4C0D-BE3E-43ABA559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95B5F-51F1-49DC-9381-CE9DF2D2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9E670-7C75-426A-9DBF-A371E516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11B-E502-4D33-B26A-4F776650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2F05E-C82D-41FC-9F7D-1141E5B0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21DD5-6D28-4069-A610-9206772F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24529-E9C6-431C-84A6-01E604B9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4E08C-B38B-4325-BCE5-2A3A49D5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D6B47-6999-4BF2-93E2-E7226584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5A644-D3C1-473A-9ADC-5E67737E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AF0CF-1733-4699-B221-E6ABB466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3116D-5629-43BC-A0C7-C92CD422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C8675-6C0A-4C2B-8307-05C168E4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50991-9D43-4479-8DEE-2B81BFF2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B611-B53A-4096-8F68-4CA86BF4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FCE99-DA0D-48DB-8694-E5D570E0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23DA8-BD1F-4732-A78D-9E063EB9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F3065-8215-488E-9BB2-E94C85EB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6A44C-79CF-4EEA-8AD8-1A73530F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BE85F-85D1-43D3-AE30-CD5435AF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37904-4AC2-451F-8428-2EC29BE3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55555-D6D1-41D4-AC8F-6A35F1E8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9A40D-CE1C-400D-A3CE-4FC25AA9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F4526-E33E-4521-880A-D1F5FBBF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258BA-D90B-4141-BF3A-DE3440D9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8509-8E67-4552-8412-E1E64F58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AAAC7-81A1-4C81-81B9-F2317BD1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21A29-E927-4228-882C-CF73C734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B520B-4D17-4A17-91A1-32203AE0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FFDC8-BCC9-41FE-AB96-CBDE4C83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A10D6-61F5-4FDC-8A85-45B10A55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62929-BCEE-4E48-95AF-46DBB387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215B8-569A-46A8-BEE5-B6B0CD5C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6BDFF-9130-4485-8E29-AAC4EE0A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136BE-2115-4C2E-9565-27197B2E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B1109-ACE9-46F7-9812-B37929F0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FD8-2AAE-469F-96C8-96274CB0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7484A-FE9F-40BC-B649-4B7DC19A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70161-576C-4C85-93EC-BB7CE8CF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571E6-C00F-4F20-BD8B-BECCF325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A584C-167C-4269-974D-31335FA4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F0FD8-789A-4934-82F6-56BA9360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A5C24-0B28-4D02-AE99-2EA1A331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3B7EC-35BA-45D0-8278-5A1EA307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596FD-AB68-474F-B80A-3D9CD1DB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27F25-7C11-46E2-A3E5-12804E17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B5D18-5F32-48B3-9B6A-F40D4E77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6E59-8671-42AC-8C2A-87FD0298CA77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0B67-CCB8-4197-A35C-90387C430E7B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8E8D-EEAE-4BB2-A6CC-264C28B8FA49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18C5-31E1-414E-A541-11DA4801FB96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6520-D436-43F0-9878-23A91A3EDC88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AD36-6D2E-42F2-B287-C9217D24776C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64B2-B6E0-45CF-A471-269002436AF1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31A3-FD3C-4DF3-93EA-E12F03562E05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2C99-2032-4768-972F-30374225C77A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F684-E71B-4553-ACFA-28999AE4B0A8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7681-CF3B-4A95-8B5B-AAB62E97245C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B58E-F5A8-4F18-8832-0B86A4C6334D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8FBE-840D-4790-B43F-8DF78C11B260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E71D-469A-4540-A42F-5185F3CA8781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201A-AF82-4AD7-AB5C-9CA644FEC654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BE19-4E73-4CEA-80ED-DE71B0F919CB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C9E5-D318-499E-B1A3-2484BEE1C38C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FC2B-5D1E-4C1C-BA35-549D8A504D55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983A-4A56-4B35-8DFC-60AA1B68BCCB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53D7-4E84-4B36-822E-CFFD07C6F98B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of Medical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Kragujev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CHEMICAL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lead to health disorders at home and at the workpla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GREE OF COLLECTIVE I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degree of herd immunity required to prevent disease 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vari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from disease to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ability of individuals to transmit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length of its contag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mode of transmission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f the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size of the collectiv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nd the relationships within it (closeness and intensity of contacts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existence of collective immunity can be explained by: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bsence of an epidemi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 a pop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yclical variation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some infectious diseases, especially those transmitted by droplets, that is, by direct contac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ocess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elf-regulat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the epidemi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The totality of external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actors of living and non-living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nature that act on 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pecific unit or ecological communit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determining their development and survival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 (Ecosphere)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layer of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arth's crus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including water and air, in which all the living world is loc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- geosp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- biosphe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COLOG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cience of the relationship between living beings and the environm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at surrounds them (other individuals of the same species, flora and fauna and the entire inanimate nature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PIDEMI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DICAL (HUMAN) EC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studies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terrelationships between man and the environm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at have an impact on health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1. 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includes inanimat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on-living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nature - the geosphere (water, oxygen, minerals...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mosp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ydrosp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hosphe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ABIOTIC (GEOPHYSICAL) ENVIRONMENT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actors of the non-living environment that affect the distribut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health and disea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logical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graphic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limate factor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LOGICAL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RECT impact on heal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ndemic goit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lack of iodine in so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 wate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luorosi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tooth damage due to increased F2 content in wate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lung canc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increased emanation of radon from the soil increases the natural radioactivity background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he most important chemical agent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estic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insecti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fungi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herbi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the food indust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synthetic col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preser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antioxid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dicine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2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LOGICAL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DIRECT impact on heal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composition of the soil affect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ypes of flora and fauna affect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e way of human nutr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soil permeability affect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water supply, water p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in the karst regions, there is a risk of hydric epidemic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GRAPHICAL factors (location of terrain, configura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IRECT influenc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n the topographical distribution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thanks to the English Channel, there is no rabies in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. Bri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connection of terrain with river valley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2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EOGRAPHICAL factors (location of terrain, configur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NDIRECT influenc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n the topographical distribution of the disease - The configuration of the terrain determines where the settlement will be buil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ffects the degree of air pol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košava in Belg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the location of Sarajevo in the bas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most important for the epidemiological situation are the geographical factors that determine the climatic conditions (latitude, altitude)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LIMATE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olar rad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emper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ecipi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affect health DIRECTL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heatstroke, frostbite, "white death"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2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LIMATE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NDIRECT action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urvival m.o. in the external enviro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t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e type of flora and fauna affects the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reservoir and carrier behavior (wintering roden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behavior of other animal species (in the temperate zone of the country they do not bite during the cold perio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activity of the man himself (field work, hunting, summer vacatio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BIOTIC (BIOLOGICAL-SOCIAL) ENVIRONMENT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1/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Living beings and the relationships they establish with each other (depend on social organization and degree of evolutionary developme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lonies of flies and be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uman commun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2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IRECT EFFECTIV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nimals or plants lead to disorders of human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fectious disease agents (viruses, rickettsiae, bacteria, fungi, protozoa and multicellular parasit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oisonous plants (head of rye, cornfl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oisonous animals (spiders, snake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ypersensitivity to otherwise harmless plants and animals (pollen, feathers, etc.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3/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INDIRECT EFFECT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Ve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nimal reservoirs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probability that ticks transmit Lyme disease depends on the type of vegetation (tall grass), the type and number of animals on whose blood the tick f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choice of profession and the type of economy of the social community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4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LUENCE ON PEOPLE'S HEAL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the past (plants, animals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malnutrition, dying of hunger and infectious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oday, relationships in the human 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socio-economic status, available patterns of behavior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ffec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lifestyle (diet, smoking, physical activity, alcohol consumption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5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uman behavior (certain habits) has an impact on the structure of illness and death (on national patholog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mmunities affected by rapid social chang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oor countries becom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"welfare states"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educed physical activity, increased obesity, more diabetes and heart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1" name=""/>
          <p:cNvGraphicFramePr/>
          <p:nvPr/>
        </p:nvGraphicFramePr>
        <p:xfrm>
          <a:off x="152280" y="152280"/>
          <a:ext cx="8763120" cy="6524640"/>
        </p:xfrm>
        <a:graphic>
          <a:graphicData uri="http://schemas.openxmlformats.org/drawingml/2006/table">
            <a:tbl>
              <a:tblPr/>
              <a:tblGrid>
                <a:gridCol w="1866960"/>
                <a:gridCol w="2933640"/>
                <a:gridCol w="3962520"/>
              </a:tblGrid>
              <a:tr h="118908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AGENT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SON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OGENOUS origin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RGANIC (halogen elements, CO, Pb, Hg, acids, bases)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C (chloroform, ether, alcohol benzene, phenol)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GENOUS origin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BIOLOGICAL origin (toxic mushroom toxins, alkaloids and glycosides of plant origin, snake venoms, insects)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emia, hepatitis coma, diabetic coma, hypoglycemic crisis, hypercholesterolemia, hormonal imbalance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6/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olent destruction of existing social relations (wars, revolution) leads to worsening of the epidemiological situa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BIOLOGICAL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uses of infectious diseas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ickett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Fung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otozo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tazo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haracteristics of living agents on which the emergence of INFECTIOUS diseases depends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Way of excretion from the bo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Way of entering the bo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thogen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e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usnes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haracteristics of living causative agents on which the occurrence of INFECTIOUS disease depends 2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l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ox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mmunogen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ensitivity and resistance to drugs and disinfect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esistance in the external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lassification of the causative agents of infectious diseases according to RESISTANCE in the EXTERNAL ENVIRONMENT – Chernozubov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 Obligate parasites outside the body perish quick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measles, syphilis, gonorrhea, epidemic mening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They survive outside the body for a while, but do NOT reprodu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TB bacillu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lassification of the causative agents of infectious diseases according to RESISTANCE in the EXTERNAL ENVIRONMENT - Chernozubov 2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3. OUTSIDE THE ORGANISM, under favorable conditions, they REPRODU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t. typhoid, paratyphoid, cholera, dysent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4. They survive for a long time in the external environment in the form of SP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anaerobic bacteria - causes of tetanus, gas gangrene, botulism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NFLUENCE OF VIRULENCE AND THE QUANTITY OF GERMS ON THE DISEASE AND EPIDEMIC PROCES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Features of the biological agent responsible for the occurrence of infectious diseas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thogen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usness Infe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l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NFLUENCE OF VIRULENCE AND THE QUANTITY OF GERMS ON THE DISEASE AND EPIDEMIC PROCES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2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THOGENICITY? Physiological characteristic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USNESS? The ease with which the disease is TRANSMITTED to other ho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ECTIVITY? The ability of the agent to PENETRATE the host, MAINTAIN itself and REPLICATE (develop in it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LESSON 3 (THIRD WEEK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ical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logical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oir of infectious agents and source of 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ly focal inf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sition. Basic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pollution. Environmental epidem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FLUENCE OF VIRULENCE AND THE QUANTITY OF GERMS ON THE DISEASE AND EPIDEMIC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VIRULENCE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egree of pathogenic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Variable property of microorganis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ost and environmental factors alter virulence(S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ability to attenuate virulence is used to produce live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reater number of passages on artificial feeding ground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ttenuation, retain their antigenic properties (live vaccines - MoRuPar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QUANTITY (infective dose)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affects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ppearance, course and outcom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length of incubation of certain infectious diseases is inversely proportional to the amount of the causative ag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length of incubation of certain infectious diseases is inversely proportional to the amount of the causative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Hydric epidemi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an incubation period longer than average for a given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ore subclinical and mild atypical infections than expec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ethality lower than aver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For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limentary epidemic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the opposite is tru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Infectious dose required for certain infectious disease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00.000,000 cholera ge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000 germs for t. typh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00 germs for dysent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inimum amount for transmissive and some respirator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QUANTITY (infective dose)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ignificant in undertaking preventive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coming into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contact with a small amount of the causative ag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we prevent the occurrence of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subclinical infections develop resista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HOST = reservoir and/or source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2514600" y="3352680"/>
            <a:ext cx="4114800" cy="175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cological Triassi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6"/>
          <p:cNvSpPr/>
          <p:nvPr/>
        </p:nvSpPr>
        <p:spPr>
          <a:xfrm>
            <a:off x="4116600" y="114228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g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7"/>
          <p:cNvSpPr/>
          <p:nvPr/>
        </p:nvSpPr>
        <p:spPr>
          <a:xfrm>
            <a:off x="230040" y="510480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8"/>
          <p:cNvSpPr/>
          <p:nvPr/>
        </p:nvSpPr>
        <p:spPr>
          <a:xfrm>
            <a:off x="6901920" y="5257080"/>
            <a:ext cx="22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RESERVOIR?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A person, animal, arthropod, plant, soil or substance as well as a combination thereof in which an infectious agen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normally LIV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nd from which i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CAN be transmitted to a SUSCEPTIBL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natural habitat of the infectious ag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? 2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Most ofte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t is a living organism, but it can also be an inanimate environment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oil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ores of tetanus, gas gangrene, anthrax, parasite egg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scariasi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ot water pipe system (shower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ir conditioning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ir humidifying condenser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? 3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necessary component of the life cycle of an infectious ag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e or more reservoirs involved in the circulation of an infectious ag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single host as a reservoir of infection is included in the simplest life cycle model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4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 infectious agent circulates in nature thanks to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transmiss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the agent from person to pers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most infectious diseases (streptococcal and staphylococcal infections, diphtheria, sexually transmitted diseases, child rash fever, parotitis, typhoid fever, amebiasi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The factor whose presence, abundance or relative absence is a NECESSARY CONDITION for the occurrence of a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5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an can also be a reservoir for some diseases that are transmitted to him from animals (anthropozoonoses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ovine TB (from cow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rucellosis (from cows, pigs, go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thrax (from shee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eptospirosis (from rod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abies (from dogs, foxes, wolves...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6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most complex agent life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logically different reservoirs and different developmental stages of the infectious agent (echinococcosis, schistosomiasis and malaria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finition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person, animal, object or substance from which an infectious agent is TRANSMITTED to a susceptible host at a certain moment and leads to the appearance of a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drinking water contaminated with S. typh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a salad contaminated by an infected cook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MOST IMPORTANT RESERVOIR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ESERVOI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4"/>
          <p:cNvSpPr/>
          <p:nvPr/>
        </p:nvSpPr>
        <p:spPr>
          <a:xfrm>
            <a:off x="5565600" y="20566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5"/>
          <p:cNvSpPr/>
          <p:nvPr/>
        </p:nvSpPr>
        <p:spPr>
          <a:xfrm>
            <a:off x="5490360" y="40377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8"/>
          <p:cNvSpPr/>
          <p:nvPr/>
        </p:nvSpPr>
        <p:spPr>
          <a:xfrm flipV="1">
            <a:off x="4038480" y="24379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9"/>
          <p:cNvSpPr/>
          <p:nvPr/>
        </p:nvSpPr>
        <p:spPr>
          <a:xfrm>
            <a:off x="3962520" y="35812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Man as a reservoir of infectious agent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PATIENT as a reservo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lyconoser as a reservoi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odromal st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ypical clinical pi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typical clinical pi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A severe form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A mild form of the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n the prodromal stag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(the largest number of germs are excreted, the highest infectiv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atarrhal stage of measles, varicella, rubella, vario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reicteric stage in viral hepatit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mileston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sufficiently expressed symptomatolog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is not possible to make an exact diagnosi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uring the TYPICAL clinical pictur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(manifested symptoms characteristic of that infection) reservo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asles (measles, variola, varicella, rubella, scarlet feve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seudomembranes on certain organs (diphtheria, inflamm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ertussis (pertussi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ningeal syndrome (epidemic meningit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eripheral paralysis (polio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TYPICAL clinical pictur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manifested symptoms characteristic of that infection) reservo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have no epidemiological significa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diagnosis was made 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solation and treatment set in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n drops sharply and lasts for a short time (viral hepatitis A, pertussi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Severe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(fudroagent, fulminant, malignant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eath occurs before diagnosi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creted a large amount of ge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hemorrhagic variola (variola conflu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udroaiant form of epidemic mening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diphtheria c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hemorrhagic scarlet fe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algid form of chol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hepatitis A in pregnant wome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e agent →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fferent mutually unrelated agents (alternative effect) →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complex of two or more agents (cumulative effect) →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2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as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ambulatory, abortive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don't go to the do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diagnosis is wro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are not treate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3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Easy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(ambulatory, abortive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They are inadequately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varicella, measles, rub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scarlet fever without ra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diphtheria inflammation without pseudo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pertussis without pri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ambulatory form of typhoid fe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common diarrhea in dysentery and chol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poliomyelitis with catarrhal changes on th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sp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 and git. tr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viral hepatitis A in childre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4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ymptoms deviate from the characteristic clinical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ymptoms more intense or mild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se patients are epidemiologically very importa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MAN -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ATIENT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uring the NON-MANIFEST form of the disease, the reservo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pidemiological significance gr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aking the diagnosis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asy spread of infection to the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CARRIERS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ARRIERS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cubation carri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rriers after an illnes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-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valescent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cut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germi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Chronic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arri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1/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persons whose infection is inapparent throughout its cou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o clinical picture-symptoms and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eads to seroconversion as an objective sign of infec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y arise in the case o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small number of cau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Weakly virulent stra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artial (specific or non-specific)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leaves immunity of the same quality as in the case of a manifest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diagnosis is made exclusively in the laboratory (isolation of the causative agent, serological rea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ccur if there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sence of dis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ecific resista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Healthy or asymptomatic carriers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It is difficult to distinguish them from non-manifest pat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Excretion of causa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is short-li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They appear during an epidemic of the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Among the persons in the patient's environm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those who take care of the s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rarely discovered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More dangerous than germ carriers after previous illn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*)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Diseases with a high clinical manifestation index (ICM) do not leave germs even after the disease has passed: Measles, varicella, rubella, variola, influenz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Classifications of agents and their characteristic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umer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mplic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gents can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 Phys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Chem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3. Biological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UNMANIFESTED inf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pidemiological importance is gre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asy spread of infection to the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rriers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uring incuba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= from the penetration of the infectious agent into the host organism to the first symptoms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Short incubation (cold, flu, bacillary dysentery, SP infection, SF intoxica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Long incubation (AIDS, hepatitis B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What affects incub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genas number and virule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ost sensi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lace of entry into the body (shorter incubation in tetanus after head and neck injury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arriers in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INCUBATION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1. The patient in incubation is NOT a reservoir of infection (chickenpox, variola, measles, pertussis, flu, typhus, paratyphoi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2. The patient is a reservoir of infection AT THE END of incubation (parotitis, acute viral respiratory diseases, poliomyeliti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3. The patient is a reservoir of infection during a LONGER PERIOD (hepatitis A - second half of incubation, hepatitis B - several weeks in the second part of incubation, hepatitis C - one or more weeks in the second part of incubation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FTER AN ILL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valescent or acute g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hronic germinabil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FTER HAVING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CUTE carrie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fter clinical recovery, people excrete pathogens for a short time (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maximum 3 month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r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onvalescent, transitory, temporary especially if there was no adequate 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HRONIC carr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crete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pathogens even 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after 3 m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 from a chronic illness (several years or until the end of life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Carrier AFTER HAVING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HRONIC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cretes pathogens even after 3 m. from a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quired disease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(several years or until the end of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ay b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ccasional (intermitte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rmanently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HRONIC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arrier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acillary dysentery – more m. up to 1 y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. typhus and paratyphoid – 2-5% of people; in those with chronic inflammation of the gallbladder, bile duct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, renal pelvis, urinary bladder; can b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fecal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urinary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(more dangerou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l tor cholera – r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amonellosis – 1% of adults, 5% of children up to 5 years old; longer than 1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3/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Carrier AFTER HAVING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CHRONIC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diphtheri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chronic inflammation of the mucous membran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-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several mont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SP infections - several mont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hepatitis B – transplacental transmission, HIV, Down's syndrome, hemodialysis pat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malaria - untreated or insufficiently treate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falciparum –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vivax 1-2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quartana – &gt;3 year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some diseases (measles, chicken pox, influenza) there is NO asymptomatic or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valescent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i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From an epidemiological point of view,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rier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 can be more dangerou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an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patient is discovered and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rriers move freely and spread the infection to susceptible peopl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ature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of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tensity (physical ag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oxicity (chemical ag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lence (biological agent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 Si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xcrete a large amount of germ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cow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Q f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go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brucell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igs, cows, etc. domestic animals, roden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leptospirosi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thropozoonosi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rticularly importan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iseases of animal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that can also affect human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otspot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 the wild (wild animal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 human settlements (domestic animals, wild animals - rod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f all animal diseases,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nthropozoonoses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(animal diseases from which humans can get sick)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re especially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Pronounced clinical sign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animal diseases: anthrax, TB, rab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pizootic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mong animals with high mortality: plague, tularemi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most commonly infected animals do NOT show any signs of illnes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xcrete a huge amount of causative ag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to the environ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cows with f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goats in brucell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igs, cows, rodents... with leptospirosi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ections are often maintained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nzooticall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mong animal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n free natu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mong wild anim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 human settlement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mong domestic animals and synanthropic rodents (mice, rat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Anthropozoonoses according to et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Bacterial: anthrax, bovine TB, tularemia, leptospirosis, malleus - sakagia, plag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Viral: rabies, psittacosis-ornithosis, слинавка-шап, yellow fever, seasonal encephalitis, viral hemorrhagic fever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Rickettsial: Q - fever and other spot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freckle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Protozoal: toxoplasmosis, schistosomiasis, leishmaniasis, trypanosomi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Helminth infections: taeniasis, echinococcosis, trichin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Fungal: microsporia, trichophytia, favu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nfections of natural foc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ope (environment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ore or less limited areas in free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ermanently inhabited by certain types of organisms that make up the biocenosis (living community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atures of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Highly infectious agent → single exposure →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Other infectious agents and many non-living agents → larger quantity; longer action →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ope and biocenosis are connected into a unique whole, a system of a higher rank, the so-called ecosystem or geobiocenosi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NATURAL FOCUS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ampl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population that, together with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vertebrate hos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population (and in the case of transmissible infections, the vector population), in a certain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biotop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terconnected by food chain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person accidentally exposed to infection during the following activit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resters, soldiers during the camps. and marches hunters, scientific research teams, mountaine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frequency of infection of people staying in a natural hot spot depends 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ot spot valences (hungry ticks and ins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Number of ex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posure length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TRUCTURE OF THE NATURAL FOCU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f natural focal infections? fungal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viruse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protozoan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bacteri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rickettsi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helmin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stribution of hotspots according to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number of causative agent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unicau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ulticau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stribution of hotspots according to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number of animal species involved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ingle househ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ulti-family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donor and receptors (recipie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donor and receptors (recipients) of the causative agent are populations of various species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wild vertebrat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hosts of the causative agent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TRUCTURE OF THE NATURAL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vision of hotspots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ccording to vector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insects and spider-like arthropods) that participate in the transmission of pathogen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ingle v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lti-v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litting hotspots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by siz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ocaliz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ffu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TRUCTURE OF THE NATURAL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reproduction of wild animals, vectors and microorganisms is affec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easonal chang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activity of a natural hotspot (extinguishing or moving away from human settlements) is influen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human activ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NTHROPURGICAL FOCU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search of food, wild animals bring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hot spots closer to human settlement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clude domestic animals and rodents in the enzooti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ick-borne meningoencephal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rimean-Congo hemorrhagic fev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7"/>
          <p:cNvSpPr/>
          <p:nvPr/>
        </p:nvSpPr>
        <p:spPr>
          <a:xfrm>
            <a:off x="4876920" y="3733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CHANISM OF MAINTENANCE OF THE NATURAL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457200" y="1600200"/>
          <a:ext cx="8229600" cy="222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ion of causative agents in the form of a primary, independent epizootic proces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9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ensitive animal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or animal (receptor)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ly manifestly ill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inical form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2" name="Line 4"/>
          <p:cNvSpPr/>
          <p:nvPr/>
        </p:nvSpPr>
        <p:spPr>
          <a:xfrm flipV="1">
            <a:off x="43434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5"/>
          <p:cNvSpPr/>
          <p:nvPr/>
        </p:nvSpPr>
        <p:spPr>
          <a:xfrm>
            <a:off x="4419720" y="3352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56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8534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evention of natural focal infections? It is based on knowledge of the characteristics of the enzootic process in a specific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asic principle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ecific prot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inimizing contact with the reservoir and carrier of pathog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terruption of the circulation of the causative agent in the natural focus (maximum reduction of the number of reservoirs and carrier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PHYSICAL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emperature (low and hig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onizing rad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chanical agents (mechanical force, sound, shock, vibr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y lead to inju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n workpl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n sports f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the wa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ENTRY AND EXIT PLACES OF INFECTION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NTRY AND EXIT PLACES OF INFECTION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cous membrane of the respiratory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cous membrane of the digestive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k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sible mucous membran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ENTRY AND EXIT PLACES OF INFECTION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enetration of the causative agent through ONE entry poi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kin - transmissible infectious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gestive tract – most intestinal infectious diseas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enetration of the causative agent through MULTIPLE points of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4" name=""/>
          <p:cNvGraphicFramePr/>
          <p:nvPr/>
        </p:nvGraphicFramePr>
        <p:xfrm>
          <a:off x="304920" y="1208160"/>
          <a:ext cx="8686800" cy="5661000"/>
        </p:xfrm>
        <a:graphic>
          <a:graphicData uri="http://schemas.openxmlformats.org/drawingml/2006/table">
            <a:tbl>
              <a:tblPr/>
              <a:tblGrid>
                <a:gridCol w="2819160"/>
                <a:gridCol w="2438640"/>
                <a:gridCol w="3429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entry poin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tive agent, disease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de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trance place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membr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the respiratory trac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ptococcal infection, diphtheria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ble mucosa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sa of the digestive trac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o viru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of the respiratory trac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n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rax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membr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the digestive and respiratory trac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 and macro lesions of the skin and visible mucous membran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tospirosi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membrane of the digestive tract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Flammable process at the front doo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457200" y="1600200"/>
          <a:ext cx="8229600" cy="5106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, bacillary dysentery; cholera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inflammatory process is retained exclusively </a:t>
                      </a:r>
                      <a:r>
                        <a:rPr b="0" lang="sr-Latn-R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t the point of entry</a:t>
                      </a:r>
                      <a:r>
                        <a:rPr b="0" lang="sr-Latn-C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SP infection; epidemic meningitis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ts penetrate further into organism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al hepatitis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hanges in the entry site, but in the </a:t>
                      </a:r>
                      <a:r>
                        <a:rPr b="0" lang="sr-Latn-R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rgans for which the causative agent has an affinity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-152640" y="0"/>
            <a:ext cx="9296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PIDEMIOLOGICAL CLASSIFICATION OF INF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DISEASE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(made on the basis of th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MAIN entry point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of the causative ag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8" name=""/>
          <p:cNvGraphicFramePr/>
          <p:nvPr/>
        </p:nvGraphicFramePr>
        <p:xfrm>
          <a:off x="0" y="762120"/>
          <a:ext cx="9144000" cy="6126120"/>
        </p:xfrm>
        <a:graphic>
          <a:graphicData uri="http://schemas.openxmlformats.org/drawingml/2006/table">
            <a:tbl>
              <a:tblPr/>
              <a:tblGrid>
                <a:gridCol w="2057400"/>
                <a:gridCol w="70866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,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les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colds, mumps, whooping cough, scarlet fever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stinal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hoid fever, paratyphoid A, B, bac. dysentery, vir. hepatitis A, polio, cholera, food poisoning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tor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ria, spotted typhus, relapsing typhus,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ow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ever, dengue, papatachi fever, leishmaniasis, trypanosomiasi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n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runculosis, carbunculosis, phlegmon, impetigo, actinomycosis, trichophytia, favus, erysipela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nd infection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anus, gas gangrene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homa, blenorrhea, conjunctivitis of various etiology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real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orrhea, syphilis, HIV infection, viral hepatitis B and C, genital herp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DISPOSI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efinition: the tendency of the host to get sick from certain diseas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ries under the influence of various factors, the so-called DISPOSITION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eparate from factors that increase exposure to the ag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seases are the result of the action of both, so we call them together conditioning factor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DISPOSITION FACTOR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EN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R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THNIC AND RELIGIOUS AFF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CCU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OCIO-ECONOMIC COND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THER DIS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I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affects both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isposition and exp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HILDREN have 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disposition towards the causative agents of poliomyelitis and viral hepatitis A, and 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great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endency towards coliform bacteria and staphylococci; due to undeveloped hygiene habits, they are more exposed to intestinal infectious dis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DULTS are more exposed to sexually transmitted diseas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reater sensitivity and more frequent illness of women from some infectious diseases is a consequence of certain physiological conditions 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nstruation (+ tuberculin test, can become -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regnancy (infections of the renal pelvis with conditionally pathogenic agents are more common; the clinical picture of viral hepatitis A is more seve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fferences in the frequency of certain diseases in men and women are not only a consequence of biological differences, but also differences in lifestyle, that is, exposure to the ag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PHYSICAL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Traffic trauma has a significant place in the structure of mortality in developed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hysical agents lead to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dividual illn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ass health disorders (nuclear accidents - Chernobyl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Racial affili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ore often they suffer fro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uberculosis, syphilis, pertussis – bl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oliomyelitis - whi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FFERENCES as a result of the influence of other factors (habits, customs, socio-economic conditions), and not biological peculiarities of rac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thnicity and relig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slims are less likely to suffer from trichin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sequence of lifestyle, habits and custom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Occup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impact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occupation on disposition is difficult to asses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ttle breeders and veterinarians are more likely to suffer from some anthropozoonoses, and foresters from tick-borne meningoencephal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higher frequency of certain infectious diseases among members of certain professions is mainly a consequence of greater exposu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ocio-economic situ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affects the way of life, living conditions and hygiene hab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improving the economic and hygienic level, the frequency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testinal infectious diseases is reduced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Urbanization with accompanying overcrowding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acilitates the spread of respirator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fection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Die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adequat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take of proteins and some vitamins (A, S)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creases susceptibility to infectious diseas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tarvat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reduces the ability to create antibodies as well as the phagocytic ability of leukocyt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Other disease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any infectious and non-infectious diseases increase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tendency to other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dis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patients with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hronic non-infectious diseas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- bacterial pneumo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diabetic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- infections caused by pyogenic bact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Measles and pertussi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increase susceptibility to bacterial lung infections and activate tuberculosis foc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Fatigue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reduces resistance to inf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number of changes occur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pidemics of meningiti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 soldiers after a strenuous march, or more frequent occurrence of clinically manifest forms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poliomyeliti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fter exhausting play of children infected with the causative agent of this disease, have been reco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ccording to Selye, various stress factors, including fear, strong emotions, trauma, intense exposure to cold or heat,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can affect the reduction of resistance to infection through the pituitary adrenocortic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COLLECTIVE IMMUNITY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efinition: the resistance of a population to certain dis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dividual immunity reduces the likelihood that an individual will contract a particular disease when exposed to an ag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ollective immunity reduces the probability of an epidemic after the introduction of an agent into a population or collective, regardless of the fact that some people in that population are still susceptibl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GREE OF COLLECTIVE IMMUNITY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is measured by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proportion of immun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people in a popu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has significance for the epidemic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makes it possible to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predict the cours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f the epidem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high % of immune individuals in the population reduces the possibility of contact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between the infected and the suscept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mmune population represents a barrier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to the spread of the ag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GI</dc:creator>
  <dc:description/>
  <dc:language>en-US</dc:language>
  <cp:lastModifiedBy>OGI</cp:lastModifiedBy>
  <dcterms:modified xsi:type="dcterms:W3CDTF">2023-09-26T10:20:31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